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ABF97-3C8F-4FBF-A099-539C89E2A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7C9C5-C295-4163-B724-D48AE1A38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43906-3D67-4E21-8C48-CAE78D7D2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4EC79-D83B-4B03-866E-218EEBA1AF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8AA9E-B463-43A9-8088-4E699D6B2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3D7AE-9C60-4E14-BBBD-D2E8CA589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93A85-3776-4BD4-B198-7306E7248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95B04-7AB4-4CDB-B7F7-CEC936797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7C99B-8252-4637-A392-072D61145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23F4AF-E037-4D6E-AC6D-A3582AB44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DB448-57A5-4496-9C48-F65E6EBF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4E667-7CCC-4447-BD3F-5C0622FE4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8841A1-9B24-484C-8653-DAEE53D24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133B0-D295-4A36-9BC6-6D154D86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D64A1-91A9-4867-B197-50B8B7992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F0022-3524-469C-A1EC-9FADCB26D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240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170040" y="159984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914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240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170040" y="3966480"/>
            <a:ext cx="250236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610C1-5563-479D-BF06-2116527BB1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5A6E-E84C-4556-BA84-1B879D0ED8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022-84FC-4622-9230-49713CCAE0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9457F-2131-4B80-9967-A376CF95A8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914400" y="277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F97E-4D2D-4DA6-9559-073B750F7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26EA5-7518-4125-BAB2-D27ACB96C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897080" y="396648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3AF72-F126-41BA-82B8-256E28794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897080" y="1599840"/>
            <a:ext cx="3792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914400" y="3966480"/>
            <a:ext cx="77724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2FA97-BCF1-43A6-A401-5DAC2F538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686800" cy="4876920"/>
            <a:chOff x="0" y="0"/>
            <a:chExt cx="8686800" cy="487692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609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380880" y="1417680"/>
              <a:ext cx="8305920" cy="182520"/>
              <a:chOff x="380880" y="1417680"/>
              <a:chExt cx="8305920" cy="182520"/>
            </a:xfrm>
          </p:grpSpPr>
          <p:sp>
            <p:nvSpPr>
              <p:cNvPr id="3" name=""/>
              <p:cNvSpPr/>
              <p:nvPr/>
            </p:nvSpPr>
            <p:spPr>
              <a:xfrm>
                <a:off x="6858000" y="1417680"/>
                <a:ext cx="1828800" cy="18252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380880" y="1494000"/>
                <a:ext cx="8305920" cy="0"/>
              </a:xfrm>
              <a:prstGeom prst="line">
                <a:avLst/>
              </a:prstGeom>
              <a:ln w="190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b2b2b2"/>
              </a:buClr>
              <a:buSzPct val="9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cc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cccc99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914040" y="6251400"/>
            <a:ext cx="19810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352320" y="624852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37AFF-0B6B-4AF8-B632-21F655300783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0" y="4876920"/>
            <a:ext cx="609480" cy="0"/>
          </a:xfrm>
          <a:prstGeom prst="line">
            <a:avLst/>
          </a:prstGeom>
          <a:ln w="44280">
            <a:solidFill>
              <a:srgbClr val="33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0" y="0"/>
            <a:ext cx="8763120" cy="5943600"/>
            <a:chOff x="0" y="0"/>
            <a:chExt cx="8763120" cy="5943600"/>
          </a:xfrm>
        </p:grpSpPr>
        <p:sp>
          <p:nvSpPr>
            <p:cNvPr id="48" name=""/>
            <p:cNvSpPr/>
            <p:nvPr/>
          </p:nvSpPr>
          <p:spPr>
            <a:xfrm>
              <a:off x="0" y="0"/>
              <a:ext cx="1752480" cy="4876920"/>
            </a:xfrm>
            <a:prstGeom prst="rect">
              <a:avLst/>
            </a:prstGeom>
            <a:solidFill>
              <a:srgbClr val="cc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9" name=""/>
            <p:cNvGrpSpPr/>
            <p:nvPr/>
          </p:nvGrpSpPr>
          <p:grpSpPr>
            <a:xfrm>
              <a:off x="0" y="3505320"/>
              <a:ext cx="8763120" cy="2438280"/>
              <a:chOff x="0" y="3505320"/>
              <a:chExt cx="8763120" cy="2438280"/>
            </a:xfrm>
          </p:grpSpPr>
          <p:sp>
            <p:nvSpPr>
              <p:cNvPr id="50" name=""/>
              <p:cNvSpPr/>
              <p:nvPr/>
            </p:nvSpPr>
            <p:spPr>
              <a:xfrm>
                <a:off x="990720" y="3505320"/>
                <a:ext cx="7772400" cy="2438280"/>
              </a:xfrm>
              <a:prstGeom prst="rect">
                <a:avLst/>
              </a:prstGeom>
              <a:solidFill>
                <a:srgbClr val="3300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1038240" y="3733920"/>
                <a:ext cx="7648560" cy="2138400"/>
              </a:xfrm>
              <a:prstGeom prst="rect">
                <a:avLst/>
              </a:prstGeom>
              <a:solidFill>
                <a:srgbClr val="ffffe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"/>
              <p:cNvSpPr/>
              <p:nvPr/>
            </p:nvSpPr>
            <p:spPr>
              <a:xfrm>
                <a:off x="0" y="4876920"/>
                <a:ext cx="990720" cy="0"/>
              </a:xfrm>
              <a:prstGeom prst="line">
                <a:avLst/>
              </a:prstGeom>
              <a:ln w="5076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" name=""/>
            <p:cNvGrpSpPr/>
            <p:nvPr/>
          </p:nvGrpSpPr>
          <p:grpSpPr>
            <a:xfrm>
              <a:off x="635040" y="533520"/>
              <a:ext cx="8077320" cy="304560"/>
              <a:chOff x="635040" y="533520"/>
              <a:chExt cx="8077320" cy="304560"/>
            </a:xfrm>
          </p:grpSpPr>
          <p:sp>
            <p:nvSpPr>
              <p:cNvPr id="54" name=""/>
              <p:cNvSpPr/>
              <p:nvPr/>
            </p:nvSpPr>
            <p:spPr>
              <a:xfrm>
                <a:off x="6273720" y="533520"/>
                <a:ext cx="2438640" cy="304560"/>
              </a:xfrm>
              <a:prstGeom prst="rect">
                <a:avLst/>
              </a:prstGeom>
              <a:solidFill>
                <a:srgbClr val="b2b2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635040" y="685800"/>
                <a:ext cx="8077320" cy="0"/>
              </a:xfrm>
              <a:prstGeom prst="line">
                <a:avLst/>
              </a:prstGeom>
              <a:ln w="44280">
                <a:solidFill>
                  <a:srgbClr val="3300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0033"/>
                </a:solidFill>
                <a:latin typeface="Times New Roman"/>
              </a:rPr>
              <a:t>Click to edit the title text format</a:t>
            </a:r>
            <a:endParaRPr b="0" lang="en-US" sz="4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dt" idx="4"/>
          </p:nvPr>
        </p:nvSpPr>
        <p:spPr>
          <a:xfrm>
            <a:off x="912600" y="625140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 type="ftr" idx="5"/>
          </p:nvPr>
        </p:nvSpPr>
        <p:spPr>
          <a:xfrm>
            <a:off x="33541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 type="sldNum" idx="6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E8085-6205-4D51-8DF3-2193D1C253BD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575"/>
              </a:spcBef>
              <a:buClr>
                <a:srgbClr val="b2b2b2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cccc99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057040" y="1143000"/>
            <a:ext cx="66294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2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QUANDO I REQUISITI NON SONO SUFFICIENTI PER LA</a:t>
            </a:r>
            <a:br>
              <a:rPr sz="1600"/>
            </a:b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PARTECIPAZIONE ALLE GARE, SI PUO’ RICORRERE ALLE A.T.I. </a:t>
            </a:r>
            <a:br>
              <a:rPr sz="1600"/>
            </a:br>
            <a:r>
              <a:rPr b="0" lang="it-IT" sz="1600" spc="-1" strike="noStrike">
                <a:solidFill>
                  <a:srgbClr val="330033"/>
                </a:solidFill>
                <a:latin typeface="Tahoma"/>
              </a:rPr>
              <a:t>   (art. 37) OPPURE ALL’AVVALIMENTO (art. 49 D.Lgs.n. 163/2006)</a:t>
            </a:r>
            <a:r>
              <a:rPr b="0" lang="it-IT" sz="2800" spc="-1" strike="noStrike">
                <a:solidFill>
                  <a:srgbClr val="330033"/>
                </a:solidFill>
                <a:latin typeface="Tahoma"/>
              </a:rPr>
              <a:t>                                                 </a:t>
            </a:r>
            <a:br>
              <a:rPr sz="2800"/>
            </a:b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962160"/>
            <a:ext cx="68580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Avv. Andrea Stefanell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62A9E6-D1BE-4E7E-BDEA-71F588E42AE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1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 </a:t>
            </a:r>
            <a:r>
              <a:rPr b="1" lang="it-IT" sz="1800" spc="-1" strike="noStrike">
                <a:solidFill>
                  <a:srgbClr val="ff0000"/>
                </a:solidFill>
                <a:latin typeface="Arial"/>
              </a:rPr>
              <a:t>(III° decreto correttiv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Se OGGETTO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) contiene oo./b./s. elevato contenuto tecnologico/complessiva tecnic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b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Se o./b./s. &gt; 15% tot. appal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I subappalto (art. 118, c. 2°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Stazione appaltante paga direttamente subappaltator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916360" y="3500280"/>
            <a:ext cx="1225440" cy="64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716360" y="4508640"/>
            <a:ext cx="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7E65-D451-4A21-8AA2-16716A48A07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Operatore economico invitato INDIVIDUALMEN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uo presentare offert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er sè o quale mandatario di operatori riuniti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43280" y="29242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43280" y="378936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7E12F-441D-4FFB-BDA9-77A474AA1C3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13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ESEGUIRE le PERCENTUALI corrispondenti alle QUOTE di partecip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00BEE-ADD3-468A-AF85-E09788DA49E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“MANCATE RIFORME” DEL CODICE</a:t>
            </a: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042920" y="155700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fe00"/>
                </a:solidFill>
                <a:uFillTx/>
                <a:latin typeface="Tahoma"/>
              </a:rPr>
              <a:t>Mancanza corrispondenza fra requisiti - proporzionalità quota – esecu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ff0000"/>
                </a:solidFill>
                <a:uFillTx/>
                <a:latin typeface="Tahoma"/>
              </a:rPr>
              <a:t>Modificabilità composizione a.t.i</a:t>
            </a:r>
            <a:r>
              <a:rPr b="0" lang="it-IT" sz="1600" spc="-1" strike="noStrike">
                <a:solidFill>
                  <a:srgbClr val="ff0000"/>
                </a:solidFill>
                <a:latin typeface="Tahoma"/>
              </a:rPr>
              <a:t>.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1" lang="it-IT" sz="1400" spc="-1" strike="noStrike">
                <a:solidFill>
                  <a:srgbClr val="ff0000"/>
                </a:solidFill>
                <a:latin typeface="Tahoma"/>
              </a:rPr>
              <a:t>Principio di massima concorrenzialità ed antitru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NO previsione esplicita a.t.i. mis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fideiussione a.t.i. costituende (Ad.Plen. CdS 4/10/2005 n. 8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anomalia offerte a.t.i. costituende (CdS 29/11/2005, n. 6772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                  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soggettive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Questione possesso alcuni requisiti (vds. QUALITA’, iscrizione Albi reg.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                 </a:t>
            </a:r>
            <a:r>
              <a:rPr b="0" lang="it-IT" sz="1300" spc="-1" strike="noStrike">
                <a:solidFill>
                  <a:srgbClr val="000000"/>
                </a:solidFill>
                <a:latin typeface="Tahoma"/>
              </a:rPr>
              <a:t>oggettive ?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6443640" y="4941720"/>
            <a:ext cx="1297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3640" y="5157720"/>
            <a:ext cx="1224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924360" y="256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012000" y="2565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33FAE-2C55-4E17-8DD2-85CF3A5ED00B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endParaRPr b="0" lang="en-US" sz="28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4 = associati/ndi conferiscono MANDATO collettivo CON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5 =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MANDA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con scrittura privata autent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Arial"/>
              </a:rPr>
              <a:t>PROCURA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capo al L.R. capogrupp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MANDATO gratuito ed IRREVOCABI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eventuale revoca NO effetti nei confronti Stazione Appaltant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6 = Rappresentanza processuale ESCLUSI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.A. può far valere direttamente Responsabilità in capo singole Mandant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8 = Fallimento Mandatario          S.A. prosegue altro mandante (diventa CAPOGRUPPO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Comma 19 = Fallimento Mandante            Capogruppo indica sostituto mandante o subentra esecuz.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340000" y="3213000"/>
            <a:ext cx="71928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872B-CD79-4C31-95BD-23516D41DC77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1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CODICE CIVILE</a:t>
            </a:r>
            <a:br>
              <a:rPr sz="2400"/>
            </a:br>
            <a:endParaRPr b="0" lang="en-US" sz="24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MANDA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3 c.c</a:t>
            </a:r>
            <a:r>
              <a:rPr b="0" lang="it-IT" sz="1400" spc="-1" strike="noStrike">
                <a:solidFill>
                  <a:srgbClr val="330033"/>
                </a:solidFill>
                <a:latin typeface="Arial"/>
              </a:rPr>
              <a:t>.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ntratto con cui parte si obbliga a COMPIERE ATTI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per CO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 ALTRA PAR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4 c.c. (rappresentanza) = 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potere di agire </a:t>
            </a:r>
            <a:r>
              <a:rPr b="0" lang="it-IT" sz="1600" spc="-1" strike="noStrike" u="sng">
                <a:solidFill>
                  <a:srgbClr val="3366ff"/>
                </a:solidFill>
                <a:uFillTx/>
                <a:latin typeface="Arial"/>
              </a:rPr>
              <a:t>IN NOM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ltre che “per conto”) mandan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705 (SENZA rappresentanza) = il mandatario agis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sol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in nome proprio; I terzi non hanno alcun rapporto con il mand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ff0000"/>
                </a:solidFill>
                <a:uFillTx/>
                <a:latin typeface="Arial"/>
              </a:rPr>
              <a:t>PROCUR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7 c.c. (Procura) = Potere di rappresentanz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art. 1388 c.c.= contratto concluso dal Rappresentante (mandatari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                        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IN NOME E PER CONT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del Rappresentato (mandante) produce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Arial"/>
              </a:rPr>
              <a:t>direttamente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effetti nei confronti del Rappresent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908000" y="5157720"/>
            <a:ext cx="100836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1763280" y="5516640"/>
            <a:ext cx="3529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7A16-397C-44C5-9EF0-CD6B32D43C38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436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Direttiva 2004/18/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Vale p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disporrà dei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2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“Capacità tecniche e professionali”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Un operatore economico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può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, per un determinato appalto, fare affidamento sulle capacità di altri soggetti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a prescindere dalla natura dei suoi legam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 questi ultimi, dimostrando alla P.a. aggiudicatrice che </a:t>
            </a:r>
            <a:r>
              <a:rPr b="0" i="1" lang="it-IT" sz="1600" spc="-1" strike="noStrike">
                <a:solidFill>
                  <a:srgbClr val="000000"/>
                </a:solidFill>
                <a:latin typeface="Tahoma"/>
              </a:rPr>
              <a:t>per l’esecuzione del contra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isporrà delle </a:t>
            </a:r>
            <a:r>
              <a:rPr b="1" lang="it-IT" sz="16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 necessarie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mediante, ad es., la presentazione dell’impegno di questi sogget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mma 3°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Firewall"/>
          <p:cNvSpPr/>
          <p:nvPr/>
        </p:nvSpPr>
        <p:spPr>
          <a:xfrm>
            <a:off x="1979640" y="2060640"/>
            <a:ext cx="1152360" cy="760320"/>
          </a:xfrm>
          <a:prstGeom prst="pie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3851280" y="2133720"/>
            <a:ext cx="1368000" cy="590400"/>
            <a:chOff x="3851280" y="2133720"/>
            <a:chExt cx="1368000" cy="590400"/>
          </a:xfrm>
        </p:grpSpPr>
        <p:sp>
          <p:nvSpPr>
            <p:cNvPr id="185" name="Gear"/>
            <p:cNvSpPr/>
            <p:nvPr/>
          </p:nvSpPr>
          <p:spPr>
            <a:xfrm>
              <a:off x="4609800" y="2133720"/>
              <a:ext cx="609480" cy="27072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851280" y="2245320"/>
              <a:ext cx="729000" cy="323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23960" y="2364480"/>
              <a:ext cx="810360" cy="359640"/>
            </a:xfrm>
            <a:prstGeom prst="pie">
              <a:avLst/>
            </a:prstGeom>
            <a:solidFill>
              <a:srgbClr val="00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8" name="Photo"/>
          <p:cNvSpPr/>
          <p:nvPr/>
        </p:nvSpPr>
        <p:spPr>
          <a:xfrm>
            <a:off x="6443640" y="2205000"/>
            <a:ext cx="1152720" cy="647640"/>
          </a:xfrm>
          <a:prstGeom prst="pi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890D7-3EFE-40D2-806C-75260BA6860A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900000" y="148392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7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economica e finanziaria”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----------</a:t>
            </a:r>
            <a:r>
              <a:rPr b="0" lang="it-IT" sz="12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di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donee dichiarazioni bancari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(comma 1° lett.a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</a:t>
            </a:r>
            <a:r>
              <a:rPr b="0" lang="it-IT" sz="900" spc="-1" strike="noStrike">
                <a:solidFill>
                  <a:srgbClr val="000000"/>
                </a:solidFill>
                <a:latin typeface="Tahoma"/>
              </a:rPr>
              <a:t>(a dimostrare)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mezzi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----------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bilanci ed estratti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b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fatturato globale o di settore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(comma 1° lett. c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ART. 48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“Capacità tecniche e professionali” ----------</a:t>
            </a:r>
            <a:r>
              <a:rPr b="0" lang="it-IT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operativ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i lavori eseguiti (comma 2°, lett. a, i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elenco delle forniture/servizi (lett. a, ii)</a:t>
            </a: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1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risorse</a:t>
            </a: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 necessarie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----------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ecnici (comma 2° lett. b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attrezzature (comma 2° lett. 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titoli studio (comma 2° lett. 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indicazione organico (comma 2° lett.g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356000" y="2276640"/>
            <a:ext cx="64944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427640" y="263700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356000" y="2637000"/>
            <a:ext cx="505080" cy="433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67280" y="4076280"/>
            <a:ext cx="100800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 flipV="1">
            <a:off x="4067280" y="4437000"/>
            <a:ext cx="1008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140360" y="4653000"/>
            <a:ext cx="93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4067280" y="4653000"/>
            <a:ext cx="936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140360" y="4653000"/>
            <a:ext cx="93636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067280" y="4653000"/>
            <a:ext cx="936360" cy="1079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BE745-0195-481C-B304-605136F53F78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(con quale strumento giuridi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800" spc="-1" strike="noStrike">
                <a:solidFill>
                  <a:srgbClr val="000000"/>
                </a:solidFill>
                <a:latin typeface="Tahoma"/>
              </a:rPr>
              <a:t>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Lettera di patronag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erformance 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800" spc="-1" strike="noStrike">
                <a:solidFill>
                  <a:srgbClr val="ff0000"/>
                </a:solidFill>
                <a:latin typeface="Tahoma"/>
              </a:rPr>
              <a:t>Capacità economico/finanziar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dichiarazioni bancarie, bilanci, fatturati)                      Contratto autonomo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i  garanzi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d’aziend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Modalità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prelimina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tratto condiziona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4859280" y="1916280"/>
            <a:ext cx="792360" cy="2952720"/>
          </a:xfrm>
          <a:custGeom>
            <a:avLst/>
            <a:gdLst>
              <a:gd name="textAreaLeft" fmla="*/ 506160 w 792360"/>
              <a:gd name="textAreaRight" fmla="*/ 792720 w 792360"/>
              <a:gd name="textAreaTop" fmla="*/ 76680 h 2952720"/>
              <a:gd name="textAreaBottom" fmla="*/ 2876040 h 2952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95640" y="5300640"/>
            <a:ext cx="1582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195640" y="5373720"/>
            <a:ext cx="158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1AE43-059F-4F3E-B737-C23DDC16AA8A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i 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ahoma"/>
              </a:rPr>
              <a:t>Co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(continua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             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ntratto di leas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omodato, vendi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nolo (a cald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  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Capacità tecnico/professional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(elenco lavori/forniture/servizi, indicazione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contratti a proge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tecnici e titolo studio, elenco attrezza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organico medio)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subappalto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cessione o affitto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’aziend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ahoma"/>
              </a:rPr>
              <a:t>                      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572000" y="2060640"/>
            <a:ext cx="1187280" cy="2879640"/>
          </a:xfrm>
          <a:custGeom>
            <a:avLst/>
            <a:gdLst>
              <a:gd name="textAreaLeft" fmla="*/ 758520 w 1187280"/>
              <a:gd name="textAreaRight" fmla="*/ 1187280 w 1187280"/>
              <a:gd name="textAreaTop" fmla="*/ 74880 h 2879640"/>
              <a:gd name="textAreaBottom" fmla="*/ 2804760 h 28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67047-8F1A-4CA3-B488-5CE6439B3972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330033"/>
                </a:solidFill>
                <a:latin typeface="Tahoma"/>
              </a:rPr>
              <a:t>A.T.I. 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(art. 37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grpSp>
        <p:nvGrpSpPr>
          <p:cNvPr id="100" name=""/>
          <p:cNvGrpSpPr/>
          <p:nvPr/>
        </p:nvGrpSpPr>
        <p:grpSpPr>
          <a:xfrm>
            <a:off x="900000" y="1341360"/>
            <a:ext cx="7704000" cy="4462560"/>
            <a:chOff x="900000" y="1341360"/>
            <a:chExt cx="7704000" cy="4462560"/>
          </a:xfrm>
        </p:grpSpPr>
        <p:cxnSp>
          <p:nvCxnSpPr>
            <p:cNvPr id="101" name="_s732165"/>
            <p:cNvCxnSpPr>
              <a:stCxn id="102" idx="0"/>
              <a:endCxn id="103" idx="2"/>
            </p:cNvCxnSpPr>
            <p:nvPr/>
          </p:nvCxnSpPr>
          <p:spPr>
            <a:xfrm flipV="1" rot="16200000">
              <a:off x="4804560" y="3071160"/>
              <a:ext cx="893160" cy="100152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4" name="_s732166"/>
            <p:cNvCxnSpPr>
              <a:stCxn id="105" idx="0"/>
              <a:endCxn id="103" idx="2"/>
            </p:cNvCxnSpPr>
            <p:nvPr/>
          </p:nvCxnSpPr>
          <p:spPr>
            <a:xfrm flipV="1" rot="16200000">
              <a:off x="5802480" y="2073240"/>
              <a:ext cx="893160" cy="29973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6" name="_s732167"/>
            <p:cNvCxnSpPr>
              <a:stCxn id="107" idx="0"/>
              <a:endCxn id="103" idx="2"/>
            </p:cNvCxnSpPr>
            <p:nvPr/>
          </p:nvCxnSpPr>
          <p:spPr>
            <a:xfrm flipH="1" flipV="1" rot="5400000">
              <a:off x="3805920" y="3073320"/>
              <a:ext cx="893160" cy="9975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108" name="_s732168"/>
            <p:cNvCxnSpPr>
              <a:stCxn id="109" idx="0"/>
              <a:endCxn id="103" idx="2"/>
            </p:cNvCxnSpPr>
            <p:nvPr/>
          </p:nvCxnSpPr>
          <p:spPr>
            <a:xfrm flipH="1" flipV="1" rot="5400000">
              <a:off x="2808000" y="2075400"/>
              <a:ext cx="893160" cy="2993760"/>
            </a:xfrm>
            <a:prstGeom prst="bentConnector3">
              <a:avLst>
                <a:gd name="adj1" fmla="val 12782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103" name="_s732169"/>
            <p:cNvSpPr/>
            <p:nvPr/>
          </p:nvSpPr>
          <p:spPr>
            <a:xfrm>
              <a:off x="3894840" y="134136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Art. 37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Codice Contratti Pubblici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_s732170"/>
            <p:cNvSpPr/>
            <p:nvPr/>
          </p:nvSpPr>
          <p:spPr>
            <a:xfrm>
              <a:off x="90000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 u="sng">
                  <a:solidFill>
                    <a:srgbClr val="000000"/>
                  </a:solidFill>
                  <a:uFillTx/>
                  <a:latin typeface="Arial"/>
                </a:rPr>
                <a:t>OPERE PUBBLICHE</a:t>
              </a:r>
              <a:endParaRPr b="0" lang="en-US" sz="11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100" spc="-1" strike="noStrike">
                  <a:solidFill>
                    <a:srgbClr val="000000"/>
                  </a:solidFill>
                  <a:latin typeface="Arial"/>
                </a:rPr>
                <a:t>Art. 13 L.n. 109/94</a:t>
              </a:r>
              <a:r>
                <a:rPr b="0" lang="it-IT" sz="1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+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19, commi 3, 4 L.n. 55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+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>
                  <a:solidFill>
                    <a:srgbClr val="000000"/>
                  </a:solidFill>
                  <a:latin typeface="Arial"/>
                </a:rPr>
                <a:t>Art. 93 e 95 d.P.R. n. 554/90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_s732171"/>
            <p:cNvSpPr/>
            <p:nvPr/>
          </p:nvSpPr>
          <p:spPr>
            <a:xfrm>
              <a:off x="289764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9900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ffffe1"/>
                  </a:solidFill>
                  <a:uFillTx/>
                  <a:latin typeface="Arial"/>
                </a:rPr>
                <a:t>FORNITURE PUBBLICH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e1"/>
                  </a:solidFill>
                  <a:latin typeface="Arial"/>
                </a:rPr>
                <a:t>Art. 10 D.Lgs.n. 358/9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_s732172"/>
            <p:cNvSpPr/>
            <p:nvPr/>
          </p:nvSpPr>
          <p:spPr>
            <a:xfrm>
              <a:off x="6891480" y="4019040"/>
              <a:ext cx="1712520" cy="1784880"/>
            </a:xfrm>
            <a:custGeom>
              <a:avLst/>
              <a:gdLst>
                <a:gd name="textAreaLeft" fmla="*/ 83520 w 1712520"/>
                <a:gd name="textAreaRight" fmla="*/ 1629000 w 1712520"/>
                <a:gd name="textAreaTop" fmla="*/ 83520 h 1784880"/>
                <a:gd name="textAreaBottom" fmla="*/ 1701360 h 1784880"/>
              </a:gdLst>
              <a:ahLst/>
              <a:rect l="textAreaLeft" t="textAreaTop" r="textAreaRight" b="textAreaBottom"/>
              <a:pathLst>
                <a:path w="21600" h="22512">
                  <a:moveTo>
                    <a:pt x="3600" y="0"/>
                  </a:moveTo>
                  <a:arcTo wR="3600" hR="3600" stAng="16200000" swAng="-5400000"/>
                  <a:lnTo>
                    <a:pt x="0" y="18912"/>
                  </a:lnTo>
                  <a:arcTo wR="3600" hR="3600" stAng="10800000" swAng="-5400000"/>
                  <a:lnTo>
                    <a:pt x="18000" y="22512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TTORI ESCLUS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23 D.Lgs. N. 158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_s732173"/>
            <p:cNvSpPr/>
            <p:nvPr/>
          </p:nvSpPr>
          <p:spPr>
            <a:xfrm>
              <a:off x="4895640" y="4019040"/>
              <a:ext cx="1710000" cy="1784880"/>
            </a:xfrm>
            <a:custGeom>
              <a:avLst/>
              <a:gdLst>
                <a:gd name="textAreaLeft" fmla="*/ 83160 w 1710000"/>
                <a:gd name="textAreaRight" fmla="*/ 1626840 w 1710000"/>
                <a:gd name="textAreaTop" fmla="*/ 83160 h 1784880"/>
                <a:gd name="textAreaBottom" fmla="*/ 1701720 h 1784880"/>
              </a:gdLst>
              <a:ahLst/>
              <a:rect l="textAreaLeft" t="textAreaTop" r="textAreaRight" b="textAreaBottom"/>
              <a:pathLst>
                <a:path w="21600" h="22546">
                  <a:moveTo>
                    <a:pt x="3600" y="0"/>
                  </a:moveTo>
                  <a:arcTo wR="3600" hR="3600" stAng="16200000" swAng="-5400000"/>
                  <a:lnTo>
                    <a:pt x="0" y="18946"/>
                  </a:lnTo>
                  <a:arcTo wR="3600" hR="3600" stAng="10800000" swAng="-5400000"/>
                  <a:lnTo>
                    <a:pt x="18000" y="22546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000" spc="-1" strike="noStrike" u="sng">
                  <a:solidFill>
                    <a:srgbClr val="000000"/>
                  </a:solidFill>
                  <a:uFillTx/>
                  <a:latin typeface="Arial"/>
                </a:rPr>
                <a:t>SERVIZI PUBBLICI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Art. 11 D.Lgs. N. 157/9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A98CF-1DE5-4921-9C14-8F3633CF8B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 </a:t>
            </a:r>
            <a:r>
              <a:rPr b="0" lang="it-IT" sz="1900" spc="-1" strike="noStrike">
                <a:solidFill>
                  <a:srgbClr val="330033"/>
                </a:solidFill>
                <a:latin typeface="Tahoma"/>
              </a:rPr>
              <a:t>(artt. 49-50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 con indicazione requisiti ed ausiliari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possesso requisiti ordine generale (art. 38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originale o copia autentic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contratt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avvalimen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nel caso di gruppo)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legame giuridic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artecipa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usiliaria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per messa disposizione mezz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</a:t>
            </a:r>
            <a:r>
              <a:rPr b="0" lang="it-IT" sz="1400" spc="-1" strike="noStrike" u="sng">
                <a:solidFill>
                  <a:srgbClr val="000000"/>
                </a:solidFill>
                <a:uFillTx/>
                <a:latin typeface="Tahoma"/>
              </a:rPr>
              <a:t>dichiarazion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rinuncia partecipazione gara né controll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Responsabilità </a:t>
            </a: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in solido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concorrente/ausiliar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  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tazioni Appalt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rt. 6 (comma 9, lett. a)  </a:t>
            </a:r>
            <a:r>
              <a:rPr b="1" lang="it-IT" sz="1600" spc="-1" strike="noStrike" u="sng">
                <a:solidFill>
                  <a:srgbClr val="000099"/>
                </a:solidFill>
                <a:uFillTx/>
                <a:latin typeface="Tahoma"/>
              </a:rPr>
              <a:t>Autorità Vigilanza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può chiedere      Operatori Economici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Documenti / Informazioni  (CONTRATTI AVVALIMENTO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268360" y="2060640"/>
            <a:ext cx="152640" cy="914400"/>
          </a:xfrm>
          <a:custGeom>
            <a:avLst/>
            <a:gdLst>
              <a:gd name="textAreaLeft" fmla="*/ 97560 w 152640"/>
              <a:gd name="textAreaRight" fmla="*/ 153000 w 15264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2268360" y="3141720"/>
            <a:ext cx="225720" cy="914400"/>
          </a:xfrm>
          <a:custGeom>
            <a:avLst/>
            <a:gdLst>
              <a:gd name="textAreaLeft" fmla="*/ 144360 w 225720"/>
              <a:gd name="textAreaRight" fmla="*/ 226080 w 2257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3213000"/>
            <a:ext cx="74880" cy="662040"/>
          </a:xfrm>
          <a:custGeom>
            <a:avLst/>
            <a:gdLst>
              <a:gd name="textAreaLeft" fmla="*/ 47880 w 74880"/>
              <a:gd name="textAreaRight" fmla="*/ 75240 w 74880"/>
              <a:gd name="textAreaTop" fmla="*/ 16920 h 662040"/>
              <a:gd name="textAreaBottom" fmla="*/ 645120 h 662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995640" y="52293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6443640" y="4941720"/>
            <a:ext cx="28908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6443640" y="5157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0B33-6B8D-4AB1-8A8A-EE788DD5705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700" spc="-1" strike="noStrike">
                <a:solidFill>
                  <a:srgbClr val="330033"/>
                </a:solidFill>
                <a:latin typeface="Tahoma"/>
              </a:rPr>
              <a:t>Il principio dell’avvalimento</a:t>
            </a:r>
            <a:endParaRPr b="0" lang="en-US" sz="27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Tahoma"/>
              </a:rPr>
              <a:t>art. 49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 (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segu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ammettere avvalimento + imprese (diversamente </a:t>
            </a:r>
            <a:r>
              <a:rPr b="0" i="1" lang="it-IT" sz="1400" spc="-1" strike="noStrike">
                <a:solidFill>
                  <a:srgbClr val="000000"/>
                </a:solidFill>
                <a:latin typeface="Tahoma"/>
              </a:rPr>
              <a:t>ex lege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1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ma solo OO.PP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avvalimento solo a requisiti tecnici o solo economici (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Tahoma"/>
              </a:rPr>
              <a:t>ora NO III° correttivo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BAN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può prevedere possibile di mero completamento e non d’avvalimento total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(per particolari attrezzature)  fissare limite massimo d’avvalimento per ausiliaria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ncorrente                              concorrente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00"/>
                </a:solidFill>
                <a:latin typeface="Tahoma"/>
              </a:rPr>
              <a:t>NO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concorrente                     AUSILIARIA                   concorrente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1692360" y="2421000"/>
            <a:ext cx="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1692360" y="3213000"/>
            <a:ext cx="0" cy="865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1763640" y="4076640"/>
            <a:ext cx="216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1692360" y="3645000"/>
            <a:ext cx="287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3203640" y="5157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364000" y="515772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 flipH="1" flipV="1">
            <a:off x="3563640" y="4724280"/>
            <a:ext cx="57636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5003640" y="4724280"/>
            <a:ext cx="72072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692360" y="314172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692360" y="2565360"/>
            <a:ext cx="288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ADCA1-DD0C-44CD-BB63-9F6ED6EC61C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200"/>
            </a:br>
            <a:r>
              <a:rPr b="0" lang="en-US" sz="2400" spc="-1" strike="noStrike">
                <a:solidFill>
                  <a:srgbClr val="330033"/>
                </a:solidFill>
                <a:latin typeface="Tahoma"/>
              </a:rPr>
              <a:t>LE NOVITA’ DEL CODICE            </a:t>
            </a:r>
            <a:r>
              <a:rPr b="0" lang="en-US" sz="2200" spc="-1" strike="noStrike">
                <a:solidFill>
                  <a:srgbClr val="330033"/>
                </a:solidFill>
                <a:latin typeface="Tahoma"/>
              </a:rPr>
              <a:t>    </a:t>
            </a:r>
            <a:br>
              <a:rPr sz="2200"/>
            </a:br>
            <a:endParaRPr b="0" lang="en-US" sz="22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00000" y="1628640"/>
            <a:ext cx="7772400" cy="453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Tahoma"/>
              </a:rPr>
              <a:t>Per forniture/servizi</a:t>
            </a: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: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2°   definizione a.t.i. verticale ed orizzontale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4°   indicazione quote d’esecuzione servizi/forni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5°   quota offerta = quota responsabilità S.A./subappal./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7°   divieto di “doppia” partecip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8°   facoltà di partecipazione successiva all’inv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9°   divieto modificazione componenti a.t.i. rispetto 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0°  annullamento aggiudicazione e nullità contrat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1°  SI subappalto attività complesse valore &gt;15% </a:t>
            </a:r>
            <a:r>
              <a:rPr b="0" lang="it-IT" sz="1400" spc="-1" strike="noStrike">
                <a:solidFill>
                  <a:srgbClr val="ff0000"/>
                </a:solidFill>
                <a:latin typeface="Tahoma"/>
              </a:rPr>
              <a:t>(3° c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2°  singolo partecipante può unirsi prima dell’offer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                                  </a:t>
            </a: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comma 13°  corrispondenza fra quota partecipazione e 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1A8AB-EB0D-4EE0-B096-7F55AB74923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2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VERTICALE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prestazioni B/S indicate PRINCIPALI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anche in termini economici)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   prestazioni B/S indicate SECONDARI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P.A. nel  BANDO quali prestazioni PRINCIPALI e quali SECONDARI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ORIZZONTA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Arial"/>
              </a:rPr>
              <a:t>mandatario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/ </a:t>
            </a:r>
            <a:r>
              <a:rPr b="0" lang="en-US" sz="1400" spc="-1" strike="noStrike">
                <a:solidFill>
                  <a:srgbClr val="3366ff"/>
                </a:solidFill>
                <a:latin typeface="Arial"/>
              </a:rPr>
              <a:t>mandanti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 stesse prestazioni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771640" y="501336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835280" y="3573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08000" y="3141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756-292C-4C9D-A499-06D92D34AC3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4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00"/>
                </a:solidFill>
                <a:uFillTx/>
                <a:latin typeface="Arial"/>
              </a:rPr>
              <a:t>Nel caso di forniture o serviz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bbligatorio specificare PARTI servizio/fornitura che saranno ESEGUITE dai singoli associan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2D7FD-143A-4588-B51D-1A9032ACBEC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5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e00"/>
                </a:solidFill>
                <a:latin typeface="Arial"/>
              </a:rPr>
              <a:t>quota OFFERT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lang="it-IT" sz="2000" spc="-1" strike="noStrike">
                <a:solidFill>
                  <a:srgbClr val="6666ff"/>
                </a:solidFill>
                <a:latin typeface="Arial"/>
              </a:rPr>
              <a:t>quota RESPONSABILIT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Stazione Appaltan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del Subappalta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b2b2b2"/>
              </a:buClr>
              <a:buSzPct val="9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nei confronti Fornitor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PRINCIPALI (=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MANDATARIO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Responsabilita </a:t>
            </a:r>
            <a:r>
              <a:rPr b="0" lang="it-IT" sz="1400" spc="-1" strike="noStrike" u="sng">
                <a:solidFill>
                  <a:srgbClr val="ff0000"/>
                </a:solidFill>
                <a:uFillTx/>
                <a:latin typeface="Arial"/>
              </a:rPr>
              <a:t>IN SOLID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Prestazioni SECONDARIE (=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MANDANTI</a:t>
            </a: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)      Responsabilita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IN LIMI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3366ff"/>
                </a:solidFill>
                <a:latin typeface="Arial"/>
              </a:rPr>
              <a:t>                                                                                               </a:t>
            </a:r>
            <a:r>
              <a:rPr b="0" lang="it-IT" sz="1400" spc="-1" strike="noStrike" u="sng">
                <a:solidFill>
                  <a:srgbClr val="3366ff"/>
                </a:solidFill>
                <a:uFillTx/>
                <a:latin typeface="Arial"/>
              </a:rPr>
              <a:t>DELL’ESECU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DDC32-3D9E-42EE-BB45-480FE83C6A4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7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singo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partecipazione in a.t.i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alf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VIETO              partecipazione                       a.t.i. b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.t.i. gamm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 algn="ctr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1979640" y="285264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1979640" y="328464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050920" y="465300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4427640" y="4149720"/>
            <a:ext cx="115236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427640" y="4653000"/>
            <a:ext cx="1081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427640" y="4653000"/>
            <a:ext cx="115236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F405A-458C-4420-A9B6-312CB88BDBD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8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i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 partecipazione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.t.i. costituen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                  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ottoscrizione Offerta da parte di TUTTI associand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gli STESSI dovranno costituire A.T.I.                  FIRMARE contrat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 flipV="1">
            <a:off x="3059280" y="2492280"/>
            <a:ext cx="79200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59280" y="2924280"/>
            <a:ext cx="792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292720" y="5013360"/>
            <a:ext cx="649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00364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140360" y="335772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867280" y="3284640"/>
            <a:ext cx="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2268000" y="4149720"/>
            <a:ext cx="4535640" cy="79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822CF-524F-4CD6-B135-5B577E093EE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33"/>
            </a:gs>
            <a:gs pos="100000">
              <a:srgbClr val="cccc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27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0033"/>
                </a:solidFill>
                <a:latin typeface="Tahoma"/>
              </a:rPr>
              <a:t>A.T.I.</a:t>
            </a:r>
            <a:r>
              <a:rPr b="0" lang="en-US" sz="1900" spc="-1" strike="noStrike">
                <a:solidFill>
                  <a:srgbClr val="330033"/>
                </a:solidFill>
                <a:latin typeface="Tahoma"/>
              </a:rPr>
              <a:t> (art. 37, comma 9-10°)</a:t>
            </a:r>
            <a:endParaRPr b="0" lang="en-US" sz="1900" spc="-1" strike="noStrike">
              <a:solidFill>
                <a:srgbClr val="330033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599840"/>
            <a:ext cx="77724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In tutti i cas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VIETATA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qualsiasi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MODIFICA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alla </a:t>
            </a:r>
            <a:r>
              <a:rPr b="0" lang="it-IT" sz="1800" spc="-1" strike="noStrike" u="sng">
                <a:solidFill>
                  <a:srgbClr val="000000"/>
                </a:solidFill>
                <a:uFillTx/>
                <a:latin typeface="Arial"/>
              </a:rPr>
              <a:t>COMPOSIZIONE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dell’a.t.i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he ha </a:t>
            </a:r>
            <a:r>
              <a:rPr b="0" lang="it-IT" sz="1600" spc="-1" strike="noStrike" u="sng">
                <a:solidFill>
                  <a:srgbClr val="000000"/>
                </a:solidFill>
                <a:uFillTx/>
                <a:latin typeface="Arial"/>
              </a:rPr>
              <a:t>FIRMA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l’OFFERTA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e violazione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nnullamento aggiudicazione                                           Nullita’ contratto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356000" y="6165720"/>
            <a:ext cx="450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vv. Andrea Stefanelli – 3 luglio 2009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4500720" y="2924280"/>
            <a:ext cx="485640" cy="723960"/>
          </a:xfrm>
          <a:prstGeom prst="downArrow">
            <a:avLst>
              <a:gd name="adj1" fmla="val 50000"/>
              <a:gd name="adj2" fmla="val 37268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4572000" y="400536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 flipH="1">
            <a:off x="2556000" y="4724280"/>
            <a:ext cx="201600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4724280"/>
            <a:ext cx="187164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024C2-E352-4BE4-A898-955469CF1117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8T15:31:12Z</dcterms:created>
  <dc:creator>Avv. Andrea Stefanelli</dc:creator>
  <dc:description/>
  <dc:language>en-US</dc:language>
  <cp:lastModifiedBy>Avv. Andrea Stefanelli</cp:lastModifiedBy>
  <dcterms:modified xsi:type="dcterms:W3CDTF">2009-06-29T08:40:53Z</dcterms:modified>
  <cp:revision>324</cp:revision>
  <dc:subject/>
  <dc:title>Congresso sugli appalti</dc:title>
</cp:coreProperties>
</file>